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F48B6-4E69-4D3C-9F65-014B833DD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B2065-3206-40D6-8385-E3E83C598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C38D1-35BF-4C28-A16A-2CEB8A8B5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CE233-2840-41CD-96D0-C629C3D58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629-7991-4415-A5D1-FC853373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D66-B3E0-4CFF-B8BF-5A74C8A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57A33-03DC-4337-87F9-EEC268D7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9DB31-CC1F-40CF-B855-BC7AF09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A258F-0FB2-4173-83AC-9F894338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8AF95-CD32-4350-A547-7EF1876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B1185-8800-4738-A862-61B7564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27F01-2F7C-4476-877E-915CAF46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A52CC-7DBE-4D39-A825-851184E2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5F20B-A8D6-4654-9DCB-D4A4198B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50618-7C13-4B6E-A5D6-B2F4C2EE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7BD5B-17DB-4B48-8D43-EE3C78D9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465-012A-45C4-9784-EC1D4971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8DCD2-CD53-4C1F-8209-6E7BA58D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3D0B1-70E5-4E9E-9D4C-D5E4C08D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AC807-14D8-4D4D-98EE-1E31DE0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4D9CC-5587-4FA0-9C4B-28403E83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56DD7-36FE-493B-AC45-0EF6D074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0176A-5288-4D49-B72B-397160A6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2AD6C-B159-4FD4-87DA-1AD4B9F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A7400-9336-4D62-A25C-11A77AF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AEC74-A0C1-47D1-83EF-00DA8FE7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D494B-C0D1-4C0E-9408-71F717E5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2AD-6EFB-4277-B935-2AD56202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EAD14-C58B-4CF1-8835-A923C4B9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1830C-E93D-44EA-A7A0-C6DD9B80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E85EE-0643-4550-9C6D-B38421FD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6C724-29F2-4C1C-802E-A0C4DEC5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838EE-2A3C-4467-8D76-47797922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0E0A6-FCCC-48E2-B126-609F6C0B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168D4-E633-4DCD-A165-44F4C0D3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DCF73-3FDE-4819-BB27-2F42270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8067B-7B1D-4E7C-A60E-9BD94BA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B7E06-24B9-4271-B273-32C6493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A858-96F2-4C56-851D-9BC6CBE4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BA11B-AB04-4DFB-8620-11AE400A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C393C-EC41-4B9F-A979-796CDD74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90E5D-31E1-462D-8973-A6D83BA8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581E8-51C5-4BD9-B613-03563E76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B45F7-0A09-47D5-B7C1-3510C6C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B8EDB-A223-4E6F-A644-4C2D0197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13A98-F187-49D2-9578-E782D17D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63E7E-9137-4554-9EA8-8867032A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5198A-EEA9-473E-A9D2-6A7ABABD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1F54D-D36A-4334-A662-7341027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E89B-7BB6-407C-9C69-D508165A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EFBD5-90A5-4A3E-AE6E-BA69EE4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679D5-FB55-4031-ACF6-9FC7B9BB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AA089-0610-47D1-8C35-F3C53C29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41416-9914-45B7-979A-3B161FAB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CB3CE-2E84-4EE4-901C-E458BBF1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E3C62-B07E-45E2-9F7B-3776C679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6BCBB-115F-4F74-AD5B-ED8353B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EFE2F-9D9D-4B72-880E-037B701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CD7C5-D0F4-46D8-A3C2-31487E6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7D3B2-E64C-4EB6-BFFD-6FFAE45D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7EB9-E3C9-44F0-9669-107A4527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9BD17-D113-46DE-BF11-8239CB7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A498D-CC95-4309-AB30-158B89D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871FB-8098-4E3B-94B0-2D86F2C2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47B9B-3AEA-4F30-93CE-7341AA6B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E2FD3-0877-420E-89A6-8DBCB82C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7324A-FB63-46D3-A644-90368D29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5B126-9265-448B-821F-7FD7F250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F0F51-833E-458E-A198-E5FBA049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2BF5E-450B-49B0-83A4-4E433C7E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2F9A4-0625-4CBC-98DA-BB7DB41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8E2F-FE5B-4D77-B704-3528BB43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DCA67-1E3D-4A87-9C45-AE4C9A22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B707B-43A4-48A3-9657-CD6E9C7D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D0320-2C26-40E2-AD6E-B47706F7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D1A77-DC0A-4963-9D64-4509737B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F3174-FD22-4B24-A0A3-89C95253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696C6-B2D2-44DD-A0E1-1AA5B211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8BEF4-C063-49F8-81B4-102D5CCD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F219E-7F7B-4505-89A7-DB636F40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8CD70-F5F7-42A0-8BFD-E65E607E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C7BD0-BD24-4457-A9DD-87A3E3DA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8DE8-E372-4EEB-A906-281A9974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FC0B0-FED5-4A59-90F8-80B173AC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18EE3-84DC-4D66-A62D-A257720B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FDD8C-8A96-44D0-B760-931C04C7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945CD-736F-4524-B3A4-640B3228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C946F-0E5C-4198-B0F4-FF2A2EE5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2CC8B-FEC1-4C17-8268-B108721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AA6C5-5466-4D40-B2BD-52F9EE6A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5238C-2FDF-4FCB-A383-E2833BCB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AA217-A554-47B7-9852-8AECFB5E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54F3AB-24C2-40FD-A8D4-D0E321D3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9573-233E-4551-8678-2898D7C7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1567B-CCA6-4E3F-B3C2-395AA0EC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90CFB-72F6-41AA-A6AD-A58D90DF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512D2-3D1B-41DC-9230-FCE7F746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87988-4D9C-42C9-80D1-BE83A647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84096-5C51-43DC-9D97-EBC240E4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B123D-C030-499F-B3C7-A0E7C18B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8ED80-1CD3-4FA1-8269-447C8698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481B8-3004-46A3-9787-ED022D2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B09DE-354B-4127-8864-E69571A9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66BE7-DA1A-4B68-87AC-504863E3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9C76-3ACC-453D-8CEB-6D2AC3F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3DDEA-C57C-4E17-8C87-B07D4AB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56EC1-D1EF-49A6-BBF0-E5E18CA6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EB54C-81F4-4994-A2F9-30A63324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29C64-C720-40C5-9648-FB4F2B64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A0BC1-0485-43A3-9C33-015887EA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9561A-9829-429F-B6ED-B2201A3D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C2B8A-6C83-468B-A26B-21DEA7E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E6D07-6D71-42DE-B18C-2D9364EF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2FDA6-2BBD-4E2F-B60F-A619684F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54B01-9A58-4746-9154-3E31B6A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2FF-F2EC-4B1A-9663-3E61BFB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86B9-CE3D-4941-A2DF-7148FE5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D07705-6288-49DA-B95C-2C86F44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285EC-0996-49B7-9E76-4F37E155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5427C-350F-41A2-B650-A1D5046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B753F-FF96-4EAA-9C67-4DB0F0E0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CBFCFA-EE0F-4071-A1D2-908EABF8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165C-3F71-4E95-BA90-80981B8A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86B3-2D9A-48E1-B3A8-B1DA95D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35EB-3545-449F-B411-7D4432C9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B46B-668B-4408-B5CB-9BAE7AB7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44EA-B06D-4DD3-8D40-F6D07A53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B4D18-3843-44F5-A300-BC8EED38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45B9-1DFA-4534-837C-72DF299E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1CA8-5653-4755-95CF-D671A9EE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A569-D02A-45B8-8598-AB3B4222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E54-61C2-497C-B05F-A747C529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BEC4-3904-429B-8DD0-8A50F54F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36E8-31F1-482F-AAFC-E5FF0F0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CF236-7203-4E63-A12B-A97EE291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D94A-9A05-4D9C-9B92-F13E0B2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05DB-4B87-41CD-8015-2DD9787E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8EBA-679E-4E06-995D-CF6CBD7A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1C55-F750-4C30-84CF-F3A7A881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A096A-37D9-4D1E-8D72-36B17D1D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3089-3445-443D-BB7A-7ED1C08A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EE627-F16A-4F35-8C86-771F887B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576-CE26-4668-81D8-FD159321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DF1EA-5896-4791-8F56-CBF4DB7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5E03B-6C29-419E-8725-B83FDDC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22A77-7020-40DD-B12C-767AD1AA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7B28-4906-4B84-ACC5-11633E0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206A-DB0F-4F9F-8CB4-41442A6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295D-BFD7-48E8-BDBC-1F9AC34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94A0E-BE2D-470E-BCC5-D449954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E15EC-0DDD-4A35-93A2-3896A358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ADF75-F441-48A7-A816-A653B902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2DB8-1F99-481F-84BE-930CFAC1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E3D-39E0-48C8-A589-5789174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A488-51A9-4FF1-B82C-C07687E3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D2DD9-F7E0-43DA-9EF8-D837669A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4BAC-FFAD-42F4-BF6C-04B39B4A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52DE3-2904-404A-B1F4-40476C4C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AC42-CD20-4CC0-8306-9BDF8C5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30ED-911D-4573-ACFF-22124F1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1480-EFDE-4FEA-B58A-72542E0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2253-E56D-4105-88A6-3749F0CC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6A86C-794D-48D2-974A-D6128774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FC58-D85D-4E2E-94AF-76F1AD51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940-F47A-4B2D-8740-962DB797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756CF-F89F-44D9-AB65-CE8A7598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01416-0561-4FF1-9EA4-E32CB16A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FA1DC-9FED-4A6A-8F0A-315BED88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72EDA-8AC1-4D4F-9D74-D6D68F4A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F375F-1F30-4CD5-A63A-90399BF9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0D5B8-B3AC-4830-922C-1919F84D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B1CDA-AFEB-411B-9CE5-E4419763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E50C-3CC0-4297-B01C-AEC3696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21A31-9DE7-403B-B6B0-F0B55F8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F17E-B3F8-4E70-9C28-9F3B2D6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3F3-1BCD-4033-ABBD-34CCB30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2F6BB-5027-4387-B6E1-0E8974D5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622D1-3A1C-4F8C-B58B-4482C397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4C91-7E28-4DE1-A199-EA0F68AF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F3224-C793-4259-9D69-25E1D3CA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79438-6812-40AA-987D-A06F2F1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1FF3D-ECC8-4BDE-893B-A378677E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4BB0-5A8B-4522-84F4-BA145D95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0F41-3072-43FE-9CAA-32C2F06C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3CDE-B231-40AC-A86C-8C0500E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C53C4-E1A1-4C41-9C49-895DA526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99F-16FF-405B-86D8-0046F9E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0014A-73B2-4989-B5F8-37A6402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A5076-7DF1-430D-90A3-3ED89C3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3723-C01A-45CE-9951-877D1193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C4AA4-8C60-410A-9F28-3F56AB50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84A52-6F89-433F-ADE2-192DE6C4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1F9F2-682C-4482-A8FB-B17AE99C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F958-93C2-4E35-92AB-A7527690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33C3C-6775-41C8-B00D-B69B4FB4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2A810-6C57-42A8-AD59-45CB2954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359ED-85B8-44DA-BE09-D54CE7A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B22-A29B-4AB8-91FD-8B8F0EEA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3863E-42C5-49C4-A292-CD16188A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0BEF-24DD-4B34-A3A1-E1DF1D8F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26AFE-9A8B-412B-8EA2-6198DC1A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E289E-336F-4555-8375-0E4D11ED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1AD1-766F-41BB-B3C1-15F45400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1DF6-6650-4B3E-ACC4-161EC55C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DA9DE-94C7-4898-82C4-7B7AFE6C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F900E-AAE5-4721-A6B4-745589C9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4AC3C-27AD-4C60-B3D7-1627ABD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B94E0-4672-4551-833C-805C669F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34A60-8384-495F-8F77-6C26B34FE65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8A276-51F4-4540-BD5C-49AC151A65A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498FA-0C26-4C7E-AE6C-90219432236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56E4C-3005-401E-BEC7-8D5F5FBEBA9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8DFA1-DE96-4075-B7D3-42C66F21CF6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29B07-FBCA-43CD-9876-57DDA95F792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B97E9-9355-40A6-A79A-2377BDF99EE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D0A78-A25A-43B4-9C48-C26D86C06FF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0C450-B22F-41E7-B8E8-4EA7B7B5017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D9B57-BDAF-49DB-A5F3-D76739EEC72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77DB0-62CB-4C30-A2CA-9B3A2344C90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90691-C951-492C-AAC5-32776DC15D9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B79B2-B3DA-4DCB-B898-48A37B64FA2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C33B8-6A42-410D-9F1A-42237999E4C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3F046-8AE6-4647-8BBC-23E3D88474E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3834D-CFFA-4F54-95A2-FC281BD7AE6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C81E5-83FC-4883-8F10-98BB6FE4669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4F648-459F-4CDA-A098-DFF3BD322F5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53510-FB0F-46E1-A445-3CAA13F2DCF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3EA61-8384-402C-B884-7F34D7002FC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0F9C6-5720-4ECA-9E27-EA768D9AB26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4C365-1C7C-4A84-A2CF-1054311FE8B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165A3-A3C9-4279-AEB7-347B32AED03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E6018-1DB4-4442-A68D-D8D6C40F6D1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6FDAE-A044-400F-A9D8-67ECCA3B955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66019-2B0E-4BAF-8BB3-A54A0957A16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9C9AD-D749-4011-B257-4F3F6E1225C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4D761-C117-4C80-808B-3B9CA0D15E1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83D74-E430-49BA-8871-4C0E9DA9C44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2AEF9-5666-41FD-9418-5F9E88F2DD5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F0E4A-FD0B-4269-91FE-0223192F897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8A505-A1CD-41D4-91B3-92D9D0D8C4C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53319-4BAD-4D08-A095-1D1AA06A159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2F204-4F7D-4DAF-AFF9-339F0241E21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7: Money Makes the World Go Round:  Economics of Media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Advertiser bias and Product Place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6600" indent="-426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omen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magazines = womens products (e.g., beauty products and food, but not cars or technology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6600" indent="-426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vidence that women hold real power and influence on purchases, and not just on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omen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product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6600" indent="-426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ouble standard in women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vs.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real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publications - product placement linked to copy (e.g., recipes linked directly to food ads) deliberately part of contract - without such manipulation, no ad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6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6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ass and New Integration Issu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merging media = public forums and dialogue, community driven and built cont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reat idea, but where’s the mone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ransition example: Newspaper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jor medium of the modern era with early roots in community and political activis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ctivist elements squeezed out to appeal to mainstream audi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ewspapers as a threatened or dying breed – wh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ping with change, or no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at replaces this voi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he death of objectivity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Journalistic objectivity as response to corporate or government censorshi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conomic incentive – “just the facts” reporting offends less people, broadening market ba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creases perceived truth – e.g.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olden age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of reporting (e.g., Cronkite) and investigative reporting (e.g., Watergate work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Problems with Objectivit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eutral vs. investigative; fair vs. pointed - a hard bala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n excuse for lazy reporting - one side, other side, no fact-checking or attempt at synthesi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f one side is considerably more powerful - they can obfuscate facts (or simply just lie) just by repeating one side loudly (e.g., “death panels”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Big problems have multiple opinions - reduction to false dichotomy does not hel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Return of opinion in new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24/7 cable news: screaming talking head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Viewer input through Twitter, Youtube submissions – interesting, but representativ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ingly branded – in USA, FOX as right wing space, MSNBC as left – silos of opinion emer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pported by silos in online content – right/left wing blogs that rarely if every talk to each oth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ronically, Daily Show, Colbert Report, 22 Minutes, etc. become analytical shows in this milieu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From Network to OWS 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5423040" y="2039400"/>
            <a:ext cx="3435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ivate media and public discourse – a complicated relationshi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19" name="Picture 3" descr="TMW2011-10-12colorlowres.png"/>
          <p:cNvPicPr/>
          <p:nvPr/>
        </p:nvPicPr>
        <p:blipFill>
          <a:blip r:embed="rId1"/>
          <a:stretch/>
        </p:blipFill>
        <p:spPr>
          <a:xfrm>
            <a:off x="284040" y="1825560"/>
            <a:ext cx="5139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Network (1976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prescient (and thus depressing) movie about media ownership and its effects on conten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lations to 2011– “mad as hell” led to cooptation of dissent and message (similar in kind to Tea Party and #OWS today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eekly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lbert Report’s “truthiness”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does it mea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might be an example of truthines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For next week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Upcoming weeks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conomic factors and application to comics as indust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ffects of new media in this transi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at is “new” media anywa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analysis pap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creation due next week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roup proposals as well – get into groups if not already, brainstorm potential viral cont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Questions on either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oney makes the world go round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hose who control the means of media production have considerable say in what is sai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ccess, diversity and fair use a long standing concern for regulators and social activists as a resul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edia ownership can exert considerable influence on cont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Economic Models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and their Effect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02840" y="2151000"/>
            <a:ext cx="39322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rivate Individual/Family Hel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rivate, traded on exchang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ublic/Government ownership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dvertiser support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ubscriber-support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777920" y="2151000"/>
            <a:ext cx="39322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Voluntary membership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ay-per use vs. licens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pen source ownershi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icropaym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ixed model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rizontal Integ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Ownership of most/all players in media field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Cost savings, cost control and manipulation of barriers to entry can be managed in monopoly/oligopoly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Mass mediascape - rationalization of industry to few major players - a trend that continues.  Example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Vertical Integ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wnership of all nodes within supply and distribution chai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ntrol and profit potential at every stop -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um is greater than the part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lso good for branding and cross-promotion - exampl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llianc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ften not a question of outright purchase but adhoc alliances (examples?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nabled by common interests, interlocking boards of directors, social clas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Limits to Integ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Synergy helps - some mergers don</a:t>
            </a: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t make much conceptual sense (examples?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Not absolute control - still independent operators on the fringe, especially in high-risk, low-profit endeavour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Size and power not absolute - changes in interest or technology can compromise even the big brands (examples?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Ownership Example: Ms. Magazin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s. Magazi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itially ad-supported, moved to subscriber-funded model in 1989- wh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0-27T19:04:31Z</dcterms:modified>
  <cp:revision>65</cp:revision>
  <dc:subject/>
  <dc:title>CCT 300: Critical Analysis  of Media</dc:title>
</cp:coreProperties>
</file>